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0B6-82A0-4B2A-9ED5-4112D070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CAE-5289-44E9-99E0-E08309C1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225-7BD7-47A2-9F26-907C5B4A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532-9910-445C-961D-AD612BE0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B9F-9DAD-4972-87E0-A2ABC9C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80F-44A8-4782-9DC8-EC629E1E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EDB7-8BAA-47F6-9AFB-A497A540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7E3-979E-4205-BBA4-C7240A8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FB7-44A1-4186-A90B-E5AD341F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592-804E-4BB6-846A-0D4CB25D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197-77A3-4386-9A79-FD23765D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245-BC6E-4A61-9106-03212A3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9D6-CE2F-476D-B9DD-078369E6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0920" y="260280"/>
            <a:ext cx="81532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sson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Septemb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Methods of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ethods of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of training you use must be appropriate to a number of factors relating to your performance.  List thes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3 minutes to complete this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T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method of training you must know the following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spect of fitness it impr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appropriate for you to use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method is carri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method is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you need to use the method for to impr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ous trai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volves running at a constant speed for a minimum of 20 minutes at 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70 – 85% of your maximum heart rat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raining can take place in any environment, e.g. hockey pitch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r CRE improves, the distance you can cover in a set time should increas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improve your performance further you should gradually increase the length of time you work fo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620640"/>
            <a:ext cx="7921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CRE you must train at an intens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– 85% of your heart rate 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0 – 15 = 203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% of 203 = 142.1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% of 204 = 172.55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ining Zone for a 15yr old in order to improve CRE is = 142 – 173b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4360" y="836640"/>
            <a:ext cx="7848360" cy="84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artlek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s CRE and Speed End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a Swedish term meaning ‘speed play’.  It can take a variety of different forms including varying pace or level of ter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nvolves running for a period of time at different speeds (or levels).  These speeds can include:  walking, jogging, ½ pace running, ¾ pace running and s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artlek session should last at least 20mi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can we monitor training zone when using Fartlek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du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fully and includ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with highlighted words/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introductory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. From your chosen activity, identify an aspect of fitness that you needed to improve.  Describe a method of training that you used to develop this aspect of fit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18:23Z</dcterms:created>
  <dc:creator>hamiltonp</dc:creator>
  <dc:description/>
  <dc:language>en-US</dc:language>
  <cp:lastModifiedBy>hamiltonp</cp:lastModifiedBy>
  <dcterms:modified xsi:type="dcterms:W3CDTF">2010-09-10T14:11:08Z</dcterms:modified>
  <cp:revision>6</cp:revision>
  <dc:subject/>
  <dc:title>Lesson 2</dc:title>
</cp:coreProperties>
</file>